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82E7-2206-47F7-8089-DBF6266F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DF0-7CD3-470E-AE76-61FBDDD2F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3882-ECD2-40C7-9EBE-055476B982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D33-B1F1-426F-B422-F7EAA3989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F2A6-1A18-4A50-9A94-805FA5B24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57BC-5142-41D7-8067-FD9EE93AD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30EC-928C-4628-9A40-FDEECC5DC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A712-41CE-4CCD-ABD7-CD6314458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3D8B-3917-494F-BC74-5408374FC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9E8-FE50-468A-BE94-4C5EED74C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080-D187-4E68-9902-826BD8D5B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4CF-1766-4B7C-B31F-996F68B8F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3322-4B33-4D35-B011-5D1F89C316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D4E-69E7-4009-922C-FF41944A1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035-3D3E-470C-962E-8E25EB053F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7FF9-A521-48C2-9BF5-39899ABB9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1CB-A7DB-4908-AB0D-5BCEFAF0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B1A-D7B9-4574-B3A6-18E28EF5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339-CC12-4A4A-9E67-DFC4BAB6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5E9-35A7-4745-BBEB-D4D6B4F8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630-AA77-4A76-AEDC-05B9FD8B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90B-6BDB-41AB-AD68-DCC6CA1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DA6-375B-4CDD-A919-38717AE7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9D0-D249-45C0-8155-EF8512C2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5BB-A8DB-445E-ABA1-71122EA9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AAF-FD4F-4BED-9C69-89C6EDB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EE3-DD6B-47F0-A3CA-A3378F4E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447-1559-4CDD-9FB0-E13B01A0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BFE-CFCC-45E5-8B89-C84BAB4A00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Day 1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y 2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re: Realistic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Fiction is a story that can happen in real life (characters have feelings that real people ha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beginning reading. We will stop periodically as we fill in our tri-fold. Remember graphic organizers help keep our minds organized as we re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traight Connector 15"/>
          <p:cNvSpPr/>
          <p:nvPr/>
        </p:nvSpPr>
        <p:spPr>
          <a:xfrm>
            <a:off x="4267080" y="44197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H="1">
            <a:off x="52578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895480" y="32767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Arial"/>
              </a:rPr>
              <a:t>The Day 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fill in the graphic organizer as a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1219320" y="2286000"/>
            <a:ext cx="243828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5029200" y="2057400"/>
            <a:ext cx="2362320" cy="1523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2362320" y="3809880"/>
            <a:ext cx="4190760" cy="2667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Arial"/>
              </a:rPr>
              <a:t>The Day 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happening on October 1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the whole school has been wai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you think Eddie feels about the author’s vis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Eddie like the books the author wrote? How can you t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is Eddie? How do you k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es Eddie write the no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biggest problem in the sto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heck Comprehens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the main charact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s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MCj04241780000[1]"/>
          <p:cNvPicPr/>
          <p:nvPr/>
        </p:nvPicPr>
        <p:blipFill>
          <a:blip r:embed="rId1"/>
          <a:stretch/>
        </p:blipFill>
        <p:spPr>
          <a:xfrm>
            <a:off x="3962520" y="4114800"/>
            <a:ext cx="2063520" cy="235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ay 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Tri-F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Element Flip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2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380880"/>
            <a:ext cx="7162920" cy="57150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Eddie Meet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2438280"/>
            <a:ext cx="7162920" cy="3733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66680" y="3048120"/>
            <a:ext cx="7162920" cy="30477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66680" y="3657600"/>
            <a:ext cx="7162920" cy="24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066680" y="4267080"/>
            <a:ext cx="7162920" cy="19051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066680" y="4952880"/>
            <a:ext cx="71629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066680" y="5562720"/>
            <a:ext cx="7162920" cy="6094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3"/>
                </a:solidFill>
                <a:latin typeface="Arial"/>
              </a:rPr>
              <a:t>Author’s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phabetical 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comes first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bu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br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b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comes first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c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conq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coinc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c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57200" y="304920"/>
            <a:ext cx="792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group of words is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silent, still, smiling,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silent, smiling, still,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smiling, straight, silent, st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still, smiling, silent,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group of words is in alphabetical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, bass, bush, 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, bass, branch, 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s, berry, branch, 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s, berry, bush, 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re does the wor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mea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lo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movie    mull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fore m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mall and m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mist and mov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ter mul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re does the wor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mel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lo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ve    shop     short    swee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fore sav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save and sh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ween short and swe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ter swe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your books to page 52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 begin to read a story, I think about who the author is telling about. This is probably the main character. Then when I read on , I think about what the character says and does, and I look for other characters. I also think about the setting of th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06080" y="6361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y 4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T Practice (RISC) The Scienc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ggie (Beginning, Middle, and E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betical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ap Book in Reading Book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ddie Met the Autho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Finding Words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C:\Users\Ena\AppData\Local\Microsoft\Windows\Temporary Internet Files\Content.IE5\QULKTN2R\MP900443600[1].jpg"/>
          <p:cNvPicPr/>
          <p:nvPr/>
        </p:nvPicPr>
        <p:blipFill>
          <a:blip r:embed="rId1"/>
          <a:stretch/>
        </p:blipFill>
        <p:spPr>
          <a:xfrm>
            <a:off x="304920" y="2851200"/>
            <a:ext cx="5638680" cy="37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ac9e"/>
                </a:solidFill>
                <a:latin typeface="Arial"/>
              </a:rPr>
              <a:t>Words in a dictionary are in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Arial"/>
              </a:rPr>
              <a:t>ABC order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C:\Users\Ena\AppData\Local\Microsoft\Windows\Temporary Internet Files\Content.IE5\ELISQHBH\MP900174966[1].jpg"/>
          <p:cNvPicPr/>
          <p:nvPr/>
        </p:nvPicPr>
        <p:blipFill>
          <a:blip r:embed="rId1"/>
          <a:stretch/>
        </p:blipFill>
        <p:spPr>
          <a:xfrm>
            <a:off x="304920" y="281952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ac9e"/>
                </a:solidFill>
                <a:latin typeface="Arial"/>
              </a:rPr>
              <a:t>To find words fast, we us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733560" y="1752120"/>
            <a:ext cx="5105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uide Word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0" descr="C:\Users\Ena\AppData\Local\Microsoft\Windows\Temporary Internet Files\Content.IE5\8MA05PMN\MP900443608[1].jpg"/>
          <p:cNvPicPr/>
          <p:nvPr/>
        </p:nvPicPr>
        <p:blipFill>
          <a:blip r:embed="rId1"/>
          <a:stretch/>
        </p:blipFill>
        <p:spPr>
          <a:xfrm>
            <a:off x="0" y="2843280"/>
            <a:ext cx="4343400" cy="401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cac9e"/>
                </a:solidFill>
                <a:latin typeface="Arial"/>
              </a:rPr>
              <a:t>Guide Words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de words are the two words at the top of each dictionary page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de words help you find words in the diction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cac9e"/>
                </a:solidFill>
                <a:latin typeface="Arial"/>
              </a:rPr>
              <a:t>Guide words are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nd last word on the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rl  -  gl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ord     Last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Remember, words in a dictionary are in ABC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3657600" y="38858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H="1" flipV="1">
            <a:off x="5334120" y="3809880"/>
            <a:ext cx="3045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1920" y="11426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irl – glob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iss - kitt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nee – kno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tty – pri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ail - s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90960" y="1066320"/>
            <a:ext cx="3352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nif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11736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cb"/>
                </a:solidFill>
                <a:latin typeface="Arial"/>
              </a:rPr>
              <a:t>Copy these guide words on your white board.  Then write the words that would be found on the same page beside the guide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5"/>
          <p:cNvSpPr/>
          <p:nvPr/>
        </p:nvSpPr>
        <p:spPr>
          <a:xfrm>
            <a:off x="4343400" y="1676520"/>
            <a:ext cx="190512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 flipV="1">
            <a:off x="3962520" y="1447560"/>
            <a:ext cx="2209680" cy="1066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4648320" y="3657600"/>
            <a:ext cx="129528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traight Connector 11"/>
          <p:cNvSpPr/>
          <p:nvPr/>
        </p:nvSpPr>
        <p:spPr>
          <a:xfrm flipV="1">
            <a:off x="4572000" y="3580920"/>
            <a:ext cx="144792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3"/>
          <p:cNvSpPr/>
          <p:nvPr/>
        </p:nvSpPr>
        <p:spPr>
          <a:xfrm flipV="1">
            <a:off x="3733920" y="4419360"/>
            <a:ext cx="243828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cac9e"/>
                </a:solidFill>
                <a:latin typeface="Arial"/>
              </a:rPr>
              <a:t>Choose the word that you would find on the same page as the following guide words.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34" name="Picture 4" descr="C:\Users\Ena\AppData\Local\Microsoft\Windows\Temporary Internet Files\Content.IE5\8EM07EE4\MP900341468[1].jpg"/>
          <p:cNvPicPr/>
          <p:nvPr/>
        </p:nvPicPr>
        <p:blipFill>
          <a:blip r:embed="rId1"/>
          <a:stretch/>
        </p:blipFill>
        <p:spPr>
          <a:xfrm>
            <a:off x="5486400" y="424800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ketchup - kick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ett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no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KETT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C:\Users\Ena\AppData\Local\Microsoft\Windows\Temporary Internet Files\Content.IE5\8MA05PMN\MC900264356[1].wmf"/>
          <p:cNvPicPr/>
          <p:nvPr/>
        </p:nvPicPr>
        <p:blipFill>
          <a:blip r:embed="rId1"/>
          <a:stretch/>
        </p:blipFill>
        <p:spPr>
          <a:xfrm>
            <a:off x="6324480" y="2133720"/>
            <a:ext cx="1852560" cy="420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s read page 53. Draw this graph and fill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143000" y="2590920"/>
            <a:ext cx="2971800" cy="12952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486400" y="2514600"/>
            <a:ext cx="2971800" cy="12952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2895480" y="4648320"/>
            <a:ext cx="3810240" cy="18288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y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743200" y="38862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5866920" y="3809880"/>
            <a:ext cx="12193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to - toe</a:t>
            </a:r>
            <a:r>
              <a:rPr b="0" lang="en-US" sz="4400" spc="-1" strike="noStrike">
                <a:solidFill>
                  <a:srgbClr val="acac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l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O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C:\Users\Ena\AppData\Local\Microsoft\Windows\Temporary Internet Files\Content.IE5\ELISQHBH\MP900430466[1].jpg"/>
          <p:cNvPicPr/>
          <p:nvPr/>
        </p:nvPicPr>
        <p:blipFill>
          <a:blip r:embed="rId1"/>
          <a:stretch/>
        </p:blipFill>
        <p:spPr>
          <a:xfrm>
            <a:off x="426708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crawl - crocodile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ri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CRI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C:\Users\Ena\AppData\Local\Microsoft\Windows\Temporary Internet Files\Content.IE5\QULKTN2R\MP900441105[1].jpg"/>
          <p:cNvPicPr/>
          <p:nvPr/>
        </p:nvPicPr>
        <p:blipFill>
          <a:blip r:embed="rId1"/>
          <a:stretch/>
        </p:blipFill>
        <p:spPr>
          <a:xfrm>
            <a:off x="2857680" y="1981080"/>
            <a:ext cx="628632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1676520" y="5181480"/>
            <a:ext cx="4572000" cy="838440"/>
          </a:xfrm>
          <a:prstGeom prst="rect">
            <a:avLst/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00400" y="3962520"/>
            <a:ext cx="2743200" cy="990360"/>
          </a:xfrm>
          <a:prstGeom prst="rect">
            <a:avLst/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crawl - crocodile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rib, car, c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these words in ABC order—remember to use the guide words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94940"/>
                </a:solidFill>
                <a:latin typeface="Arial"/>
              </a:rPr>
              <a:t>car,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awl,</a:t>
            </a:r>
            <a:r>
              <a:rPr b="0" lang="en-US" sz="7200" spc="-1" strike="noStrike">
                <a:solidFill>
                  <a:srgbClr val="494940"/>
                </a:solidFill>
                <a:latin typeface="Arial"/>
              </a:rPr>
              <a:t> crib,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ocodile,</a:t>
            </a:r>
            <a:r>
              <a:rPr b="0" lang="en-US" sz="7200" spc="-1" strike="noStrike">
                <a:solidFill>
                  <a:srgbClr val="494940"/>
                </a:solidFill>
                <a:latin typeface="Arial"/>
              </a:rPr>
              <a:t> cr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838080" y="106668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traight Connector 8"/>
          <p:cNvSpPr/>
          <p:nvPr/>
        </p:nvSpPr>
        <p:spPr>
          <a:xfrm>
            <a:off x="6019920" y="4876920"/>
            <a:ext cx="198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spoon - spring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p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PO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C:\Users\Ena\AppData\Local\Microsoft\Windows\Temporary Internet Files\Content.IE5\8EM07EE4\MP900175445[1].jpg"/>
          <p:cNvPicPr/>
          <p:nvPr/>
        </p:nvPicPr>
        <p:blipFill>
          <a:blip r:embed="rId1"/>
          <a:stretch/>
        </p:blipFill>
        <p:spPr>
          <a:xfrm>
            <a:off x="3657600" y="2057400"/>
            <a:ext cx="524520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cac9e"/>
                </a:solidFill>
                <a:latin typeface="Arial"/>
              </a:rPr>
              <a:t>button  -  by</a:t>
            </a:r>
            <a:endParaRPr b="0" lang="en-US" sz="7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BU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C:\Users\Ena\AppData\Local\Microsoft\Windows\Temporary Internet Files\Content.IE5\8MA05PMN\MC900432551[1].png"/>
          <p:cNvPicPr/>
          <p:nvPr/>
        </p:nvPicPr>
        <p:blipFill>
          <a:blip r:embed="rId1"/>
          <a:stretch/>
        </p:blipFill>
        <p:spPr>
          <a:xfrm>
            <a:off x="4495680" y="22096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acac9e"/>
                </a:solidFill>
                <a:latin typeface="Arial"/>
              </a:rPr>
              <a:t>Haymow-Headrest</a:t>
            </a:r>
            <a:endParaRPr b="0" lang="en-US" sz="65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1440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wk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zel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eavy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eal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eadache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ve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914400" y="60948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33920" y="762120"/>
            <a:ext cx="4190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733920" y="1676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86200" y="25146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fte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505320" y="34290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952880" y="43434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57600" y="5257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acac9e"/>
                </a:solidFill>
                <a:latin typeface="Arial"/>
              </a:rPr>
              <a:t>Haymow-Headrest</a:t>
            </a:r>
            <a:endParaRPr b="0" lang="en-US" sz="65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066320"/>
            <a:ext cx="396252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7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ead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8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ay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9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ealth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d6d61"/>
                </a:solidFill>
                <a:latin typeface="Arial"/>
              </a:rPr>
              <a:t>10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atch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98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200400" y="2057400"/>
            <a:ext cx="3809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62520" y="3048120"/>
            <a:ext cx="3809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9112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1430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y 5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 wanted to do everything his older brother, Bill, did. Bill was playing catch on the playground with his friend Mike. They were throwing a footba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 play?” Stan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e, if you can catch it,” Bill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hrew the ball high in the air. Stan ran and held his hands together. The ball landed right in his han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e catch,” Bill said. “You can join u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s and Set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your graphic organiz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838080" y="2666880"/>
            <a:ext cx="2895840" cy="12193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are the charact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5181480" y="2590920"/>
            <a:ext cx="3048120" cy="1371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sett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2362320" y="4648320"/>
            <a:ext cx="4114800" cy="17524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story ev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2895480" y="388620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5715000" y="396252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 Book – Page 10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16960" cy="52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eck your answers…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731360" cy="502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ening Comprehens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logy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C:\Documents and Settings\teacherses\My Documents\My Pictures\C_0689834055.jpg"/>
          <p:cNvPicPr/>
          <p:nvPr/>
        </p:nvPicPr>
        <p:blipFill>
          <a:blip r:embed="rId1"/>
          <a:stretch/>
        </p:blipFill>
        <p:spPr>
          <a:xfrm>
            <a:off x="2971800" y="1752480"/>
            <a:ext cx="3363840" cy="4103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Lesson 2 day 2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1:51Z</dcterms:created>
  <dc:creator>osmer</dc:creator>
  <dc:description/>
  <dc:language>en-US</dc:language>
  <cp:lastModifiedBy>shill</cp:lastModifiedBy>
  <dcterms:modified xsi:type="dcterms:W3CDTF">2012-09-08T20:36:47Z</dcterms:modified>
  <cp:revision>36</cp:revision>
  <dc:subject/>
  <dc:title>Lesson 2</dc:title>
</cp:coreProperties>
</file>